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5.jpeg" ContentType="image/jpeg"/>
  <Override PartName="/ppt/media/image10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067C-3E3F-405B-A49D-A5236C21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F43D-FDA4-422A-A374-813FF82F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0022-CF44-4D5C-A83D-3ECD8069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626B-2541-4B59-BFDE-28B5F067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CA84-4DE4-45E6-9406-D046DF41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0868-7350-49F7-94E2-7D6158A1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AC13-AB61-4551-B6FF-2A13092A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AAEF-01C3-4405-A8B4-0E2E2C49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813D-0233-4502-BDBA-7B861102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4791-CF49-480A-BAAC-8C47E1BE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17A2-E54C-4351-929E-F47BAB69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71AC-BC92-4F53-9CFD-FC335B9C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CA93-216D-4CEA-90CF-515AB260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0771-7222-409D-BB28-1E8A4D41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6FEB-123C-404C-A343-9686FA0C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3B81-92C3-425F-B366-A9504C93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9A0A-503E-4778-88E0-BFEF31C4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D0C1-1DB9-43C0-8513-2563DDCE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E445-EDF2-4326-959C-DBAB5128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57AA-9824-4E53-ABF3-A42001B2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62C5-C23A-4271-A78C-35CB70B3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45D8-38AF-47DA-B4A5-BA309C5D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7AE2-83A7-4EE3-86BE-7B0FABAA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656D-83F4-479A-9C08-BAFE479B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0627-3582-4F15-BBAB-1B2044F288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88F2-D51A-44CD-BE9D-4C9040EC77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evamaurproducts.com.au/Portals/4/images/sliderite1.jpg&amp;imgrefurl=http://www.evamaurproducts.com.au/Products/Sliderite/tabid/318/Default.aspx&amp;h=231&amp;w=300&amp;sz=17&amp;hl=en&amp;start=9&amp;tbnid=QxEzCkxwhqu7wM:&amp;tbnh=89&amp;tbnw=116&amp;prev=/images%3Fq%3Dhorizontal%2Bsliding%2Bwindow%26gbv%3D2%26hl%3Den%26sa%3DX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doncaster-canopies.co.uk/i/bay%20window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hyperlink" Target="http://images.google.com/imgres?imgurl=http://www.m8electric.com/picts/outlet_troubleshoot.jpg&amp;imgrefurl=http://www.m8electric.com/services_provided_by_twin_cities_electricians.htm&amp;h=768&amp;w=1024&amp;sz=34&amp;hl=en&amp;start=2&amp;tbnid=-eKwnHxMvdiJ6M:&amp;tbnh=113&amp;tbnw=150&amp;prev=/images%3Fq%3Doutlet%26gbv%3D2%26hl%3Den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regmedia.co.uk/2006/08/14/sparkfun_rotary_phone_1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johnlewis.com/jl_assets/product/230231660.jpg&amp;imgrefurl=http://www.johnlewis.com/Home%2Band%2BGarden/Lighting/Lighting%2BAccessories/%2BLight%2BSwitches%2B/2115/ProductType.aspx&amp;h=298&amp;w=298&amp;sz=11&amp;hl=en&amp;start=5&amp;tbnid=UCwBYIfmXHuL0M:&amp;tbnh=116&amp;tbnw=116&amp;prev=/images%3Fq%3Dlight%2Bswitch%26gbv%3D2%26hl%3Den%26sa%3DX" TargetMode="External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7.06 Architectural Symbols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Lois Webber WSFCP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ructural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Hung/ Re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343400" cy="21366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629400" y="304920"/>
            <a:ext cx="2149560" cy="30099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3295800" cy="32288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1676520"/>
            <a:ext cx="18259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 Window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2743200" cy="14860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429000"/>
            <a:ext cx="31435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1704960" cy="1443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553080" y="4648320"/>
            <a:ext cx="1971720" cy="13968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5867280" y="380880"/>
            <a:ext cx="2857680" cy="30574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2819520" y="3533760"/>
            <a:ext cx="31431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ical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6019920" y="2895480"/>
            <a:ext cx="2628720" cy="1989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4038480" y="5029200"/>
            <a:ext cx="1467000" cy="14860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6"/>
          <a:stretch/>
        </p:blipFill>
        <p:spPr>
          <a:xfrm>
            <a:off x="3581280" y="1905120"/>
            <a:ext cx="1524240" cy="9442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33526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5261040"/>
            <a:ext cx="1495440" cy="12729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629400" y="114300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ixtures/ Applia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h t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/ Water clo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3048120" y="1371600"/>
            <a:ext cx="1595160" cy="16286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6"/>
          <a:stretch/>
        </p:blipFill>
        <p:spPr>
          <a:xfrm>
            <a:off x="6934320" y="1600200"/>
            <a:ext cx="1463400" cy="1662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7"/>
          <a:stretch/>
        </p:blipFill>
        <p:spPr>
          <a:xfrm>
            <a:off x="7162920" y="3733920"/>
            <a:ext cx="1420560" cy="24098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8"/>
          <a:stretch/>
        </p:blipFill>
        <p:spPr>
          <a:xfrm>
            <a:off x="4495680" y="4800600"/>
            <a:ext cx="1382760" cy="15048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9"/>
          <a:stretch/>
        </p:blipFill>
        <p:spPr>
          <a:xfrm>
            <a:off x="5181480" y="2590920"/>
            <a:ext cx="11574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ther Symb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019240" cy="21430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3733920" cy="18414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3200400" y="1600200"/>
            <a:ext cx="1228680" cy="16383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3048120" y="3733920"/>
            <a:ext cx="3733560" cy="28828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7010280" y="3429000"/>
            <a:ext cx="1933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 Symb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5562720" cy="1214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6858000" y="533520"/>
            <a:ext cx="1981080" cy="185724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2130480" cy="32004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3962520" cy="24447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6934320" y="2971800"/>
            <a:ext cx="1590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46483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(CADD): </a:t>
            </a: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software and hardware that creates designs with a computer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are easy to 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tic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walk through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80520" y="41144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re compli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304920"/>
            <a:ext cx="8381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mputer- aided design 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60199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en.wikipedia.org/wiki/C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4:02:00Z</dcterms:created>
  <dc:creator>WSFCS Workstation</dc:creator>
  <dc:description/>
  <dc:language>en-US</dc:language>
  <cp:lastModifiedBy>s.brooks</cp:lastModifiedBy>
  <dcterms:modified xsi:type="dcterms:W3CDTF">2008-04-17T15:08:46Z</dcterms:modified>
  <cp:revision>7</cp:revision>
  <dc:subject/>
  <dc:title>Architectural symbols</dc:title>
</cp:coreProperties>
</file>